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58168"/>
        <c:axId val="68458416"/>
      </c:barChart>
      <c:catAx>
        <c:axId val="20758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58416"/>
        <c:crosses val="autoZero"/>
        <c:auto val="1"/>
        <c:lblAlgn val="ctr"/>
        <c:lblOffset val="100"/>
        <c:noMultiLvlLbl val="0"/>
      </c:catAx>
      <c:valAx>
        <c:axId val="68458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58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12D-8861-4B5F-B63A-037C6FE6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14D-9070-4136-B1C3-60C92697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59C-B164-415E-BD5A-8C42AB14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948-464D-4963-ABF5-6999621F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F8F-50E4-4304-8DF0-8C30B63F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C2A-DBD8-4035-921D-D9A15430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D86-6DF3-4EAF-A700-A6414B9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26C-3A3D-41F0-9F49-95E6249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551-72FD-43AA-AE13-C8979FFD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6A8-1DE0-4E9F-BC0C-E5206E38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1A2-A5D5-4FA3-B4C9-1EB2390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84B-25B1-4A3A-9C97-4FFBAD5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B0189-405D-47DD-8402-7C8885FE07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