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09645"/>
        <c:axId val="65536258"/>
      </c:barChart>
      <c:catAx>
        <c:axId val="37709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36258"/>
        <c:crosses val="autoZero"/>
        <c:auto val="1"/>
        <c:lblAlgn val="ctr"/>
        <c:lblOffset val="100"/>
        <c:noMultiLvlLbl val="0"/>
      </c:catAx>
      <c:valAx>
        <c:axId val="65536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09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CCC-5D94-4007-A1E2-D3A55BC3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DDB-CF2D-4F79-93C7-505F5774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988-8F73-48A3-AFBE-0C54FEE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B42-94E4-4D2E-9FEC-B54D4305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23F-1DE3-4A19-A795-9920E8A3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60D-FA88-4C06-BBB7-9115A076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D15-1E08-41A1-8DDC-2E70712D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D26-1B5D-4DA9-849C-ADB01236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201-3B65-4DDE-ACDF-92F0545A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CE3-1CB7-4ED1-9B95-7ED5A82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2A7-A1E0-4C24-A03B-AFF0DE4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6F1-83A9-485C-B30B-466A002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167C-F233-49EB-A776-7D2CA9FBA7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