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585811"/>
        <c:axId val="43024216"/>
      </c:barChart>
      <c:catAx>
        <c:axId val="425858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024216"/>
        <c:crosses val="autoZero"/>
        <c:auto val="1"/>
        <c:lblAlgn val="ctr"/>
        <c:lblOffset val="100"/>
        <c:noMultiLvlLbl val="0"/>
      </c:catAx>
      <c:valAx>
        <c:axId val="430242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5858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AA1F-B588-4AA5-B779-5F152E5DE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5130-F0CD-4B47-A9F6-E7B318A9E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8B09-F3F6-4E09-9E88-C36AEC337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13CD-9B1F-4FE7-8095-04FFBDE9E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614F-EC84-47E6-A714-9843675D2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D2B1-1711-48B7-89A4-E6B1AF983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AF9E-C3E6-4715-B960-108208A84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A649-B63B-455B-943C-ED58FB21C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3A95-C133-46B3-A053-3402B5DE3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794A-462F-44FC-8840-8B3FA4D2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802E-D081-4D74-8A8F-6C1255692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30A6-A9E5-4F00-9C00-5BD6A0E5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4FDA29-7D4B-4B58-88C6-735AC369383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