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28707"/>
        <c:axId val="16658083"/>
      </c:barChart>
      <c:catAx>
        <c:axId val="65228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58083"/>
        <c:crosses val="autoZero"/>
        <c:auto val="1"/>
        <c:lblAlgn val="ctr"/>
        <c:lblOffset val="100"/>
        <c:noMultiLvlLbl val="0"/>
      </c:catAx>
      <c:valAx>
        <c:axId val="16658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28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899-7C74-41A5-8444-1643C852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4D1-18B4-43D9-B215-026976D9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134-3438-48F9-A070-F3E48CBD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F49-6A20-4FAF-9FFA-1238D44C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697-5B49-4090-8778-4FAED73F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3F7-9463-4E3D-9A1C-9127DB10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2A6-0229-4B51-89F3-B467137D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981-5117-4215-98D7-6FCF0782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4E3-4D20-4A32-BBE5-237F272C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A17-EB74-4B28-A21E-217C08B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DD3-8656-4257-8482-78842F04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8EE-D73B-4E8F-BDA2-721B116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67736-C58C-4625-B558-6CDE3EADC8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