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73574"/>
        <c:axId val="28626802"/>
      </c:barChart>
      <c:catAx>
        <c:axId val="13373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6802"/>
        <c:crosses val="autoZero"/>
        <c:auto val="1"/>
        <c:lblAlgn val="ctr"/>
        <c:lblOffset val="100"/>
        <c:noMultiLvlLbl val="0"/>
      </c:catAx>
      <c:valAx>
        <c:axId val="28626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73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3E8-AC13-4F01-BB31-CB0EE692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7F1-9FC7-4CF0-992F-FF601107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563-2174-4993-9EF2-1EF6B625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03B-6774-4042-9130-AFCC75A4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38F-3EF5-40DB-95FC-C27AA15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46D-CC6E-4A2F-A788-E7BDD87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DA7-2C0B-4039-833F-055DF76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747-782A-40D4-BC9A-DA7D8426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8B1-BAAC-41AD-BA0E-ED50CB2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1A3-CE9F-4900-AB3A-B13CD18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7DC-85AE-45CB-A224-8135678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160-7491-4BA5-92B2-134592D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B1E09-BF14-4366-B9D0-D38FF03F0A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