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375343"/>
        <c:axId val="68515680"/>
      </c:barChart>
      <c:catAx>
        <c:axId val="983753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15680"/>
        <c:crosses val="autoZero"/>
        <c:auto val="1"/>
        <c:lblAlgn val="ctr"/>
        <c:lblOffset val="100"/>
        <c:noMultiLvlLbl val="0"/>
      </c:catAx>
      <c:valAx>
        <c:axId val="685156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753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EB98-62A5-4C54-BBBB-B2D5A3A77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44B7-1F67-4011-92C8-5634E28C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7169-5167-4C6D-9DE7-7112503F3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44DC-F687-48CD-B63F-8F78BC6A5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2A35-F9C2-4AED-8DDB-61C76FA5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88B5-4F46-4563-AA7C-7A32FA31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7C8E-C02D-48DB-A267-D8B0785A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64E6-5AD6-49A5-B1E5-A45E2C2D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D895-CF98-49C0-BF76-E75C010A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10F8-8C69-4FC3-AB79-218CC109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391F-5209-4A3B-8D14-798AE105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2FCF-BDDB-48FA-AC31-AD8BFA80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627DF-AEFE-41C4-B2A4-AC801AF822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