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904879"/>
        <c:axId val="55420225"/>
      </c:barChart>
      <c:catAx>
        <c:axId val="299048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420225"/>
        <c:crosses val="autoZero"/>
        <c:auto val="1"/>
        <c:lblAlgn val="ctr"/>
        <c:lblOffset val="100"/>
        <c:noMultiLvlLbl val="0"/>
      </c:catAx>
      <c:valAx>
        <c:axId val="554202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9048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87F5-5E4C-477C-A2C0-85C58A84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5981-4194-439D-B067-107FB1BEC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796C-0381-41C7-87FC-2BF36DF3B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783D-6975-4ADB-8C48-6220B46E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6C60-2039-4282-8B7A-713877574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B0C-D755-4F97-B752-D08BC011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9057-2A34-4FD4-91CA-EA175D6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44E2-A703-424E-AD7B-45ED90DAC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644-35E0-4266-9452-4E90F99E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CD8D-394F-4AFF-B365-8324B3C17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111E-F900-4408-9C44-B7A265848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75A5-21A0-401A-8ABE-92AEF0CF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EF6162-0EF1-414D-92AF-761D03868A2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