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93609"/>
        <c:axId val="27343699"/>
      </c:barChart>
      <c:catAx>
        <c:axId val="44893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3699"/>
        <c:crosses val="autoZero"/>
        <c:auto val="1"/>
        <c:lblAlgn val="ctr"/>
        <c:lblOffset val="100"/>
        <c:noMultiLvlLbl val="0"/>
      </c:catAx>
      <c:valAx>
        <c:axId val="27343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93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2DC-67D2-4A9F-8A2C-5E969657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385-9E17-4261-BB8B-8B25B39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286-B730-449D-87B2-4A92B470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FA84-D0F0-4CC2-8AB3-AB29815E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423-F600-4B28-AE4F-E6CA642E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6E5-10FF-4FF4-9C7E-7B5819AC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E38-6BCD-4BDD-86A4-A41D7187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58A-C5C2-4070-B3C1-D5A63E8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FC7-9938-4CD8-BD82-14A73B75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E62-D761-4575-A7C6-968D1320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85E-5C32-4705-A828-2DF614B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884-5B44-4663-9301-A2FC04BF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59204-49C8-466F-8435-DC402DEB3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