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39010"/>
        <c:axId val="10208808"/>
      </c:barChart>
      <c:catAx>
        <c:axId val="72390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08808"/>
        <c:crosses val="autoZero"/>
        <c:auto val="1"/>
        <c:lblAlgn val="ctr"/>
        <c:lblOffset val="100"/>
        <c:noMultiLvlLbl val="0"/>
      </c:catAx>
      <c:valAx>
        <c:axId val="10208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90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DC5F-0EAE-45F8-89A6-DCBB2AC4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C00-5350-4C22-A0AC-EBCDB4E8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790-69CD-4E58-AE75-3C8E664E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FBB8-37FB-4969-801B-57CD8B6C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EC7-6F7C-4CFF-86B8-796B3061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943-15D2-4BAD-B8EC-740074EB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C44-2FA4-47BE-B1C8-2A277384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F53-9D6F-4A58-B7D3-08005DE5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2446-D15C-4B8B-8E9D-B9F735CB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3D5-12C7-4406-9E9E-ECFC4404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B902-8D73-458D-9CD9-B44D21AE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19F-46BD-449A-B750-7B1C0F7A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268E4-AF1E-4F1F-ABD3-827439CA31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