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35805"/>
        <c:axId val="59042594"/>
      </c:barChart>
      <c:catAx>
        <c:axId val="65535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42594"/>
        <c:crosses val="autoZero"/>
        <c:auto val="1"/>
        <c:lblAlgn val="ctr"/>
        <c:lblOffset val="100"/>
        <c:noMultiLvlLbl val="0"/>
      </c:catAx>
      <c:valAx>
        <c:axId val="59042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35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29B-29A6-457A-B382-92338E64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055-00D5-4238-B8AE-BF022FE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28C-BB0F-4570-B81E-C2AC58D6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95B-08B3-462D-AEC9-13D21F3D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216-79A1-4D5F-AED8-0D33DD9A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055-343E-4DBB-932B-096CD7FB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3F3-B320-416C-87BE-8AD58176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53D-9BCD-4D15-9D1A-7C1D99DB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0C2-6A48-40C1-8F81-5FDBCBB5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DE1-CFA0-4731-8E65-9E991BC8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63F-FA42-42E4-9EF3-618A01EA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0D1-E24A-428D-B9AC-7C06E584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6CA5C-1146-4CD1-870F-669E9CC9B3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