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47730"/>
        <c:axId val="85774893"/>
      </c:barChart>
      <c:catAx>
        <c:axId val="63847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74893"/>
        <c:crosses val="autoZero"/>
        <c:auto val="1"/>
        <c:lblAlgn val="ctr"/>
        <c:lblOffset val="100"/>
        <c:noMultiLvlLbl val="0"/>
      </c:catAx>
      <c:valAx>
        <c:axId val="85774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47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E94-83EA-4F71-8FC4-53831E0F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060-9DCA-43E1-8E90-973310CD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7D5-AC4C-4D03-AF0E-D2E51228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30F-0030-4B4E-8BAE-78DD9789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44E-3C16-4925-971D-C0C6CB5B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727-AF8F-4E4F-A18E-DC7AC7EC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E63-2A81-420F-A012-50F274D0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C35-19E7-4588-8CD6-5441D354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9B7-2C4F-4C23-8AF2-052E1B7C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FD1-3BE6-4607-B4BC-3AC9F74C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CF8-E9E9-4555-AF24-01AB6D2D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2C0-017D-4820-930A-2A982C0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E2570-AB6C-4434-B049-9DBEB74601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