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31977"/>
        <c:axId val="99650328"/>
      </c:barChart>
      <c:catAx>
        <c:axId val="53831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50328"/>
        <c:crosses val="autoZero"/>
        <c:auto val="1"/>
        <c:lblAlgn val="ctr"/>
        <c:lblOffset val="100"/>
        <c:noMultiLvlLbl val="0"/>
      </c:catAx>
      <c:valAx>
        <c:axId val="99650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31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7C5-0AAF-45AB-B609-49D434B6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2BE4-84F2-4E09-81F0-95E47D1C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2C0-1D9B-4103-B832-89B36DA5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016-23C3-4B4E-B151-73D51C3E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DEDA-E9B3-4E76-B31B-E5A7FBFA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859-26E7-41A8-8B7F-848C1831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BB4-10DB-4E2D-9D10-3C3045AD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AC5-998A-4D94-AB46-BE2278C6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D2A-6523-44F2-9DC4-DC075754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ADB-75FB-44C9-BC24-A05F36EE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4BE-7B98-47BC-BBBA-47B3E0F2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351-7804-44B1-9A62-48364008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63B68-60BA-4AAE-910F-60633C82B1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