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888730"/>
        <c:axId val="61362958"/>
      </c:barChart>
      <c:catAx>
        <c:axId val="20888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62958"/>
        <c:crosses val="autoZero"/>
        <c:auto val="1"/>
        <c:lblAlgn val="ctr"/>
        <c:lblOffset val="100"/>
        <c:noMultiLvlLbl val="0"/>
      </c:catAx>
      <c:valAx>
        <c:axId val="61362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88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4D3-7AAC-4EED-840E-3009FB54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FDE2-F074-4A59-8CED-3ACE80B5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66F-9B89-45A9-8ED5-12D58909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DFE-E0D0-44F2-B85E-F00B7788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07A-2B2C-4005-BD10-DA3A8112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C10E-3A49-44FD-8197-E7999A4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788-DD40-4A86-A806-DFC7C190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F7E-2710-45EC-946F-B8EE62E2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973D-0B6E-4D7E-A240-44B716A7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25B3-D763-4FC8-A7DB-97517CD7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071-87BF-4841-9218-C945EC4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303-0CAC-4754-B911-DA0A4DE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AECD4-CDA7-4604-9CEB-287B82DF2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