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38938"/>
        <c:axId val="87222678"/>
      </c:barChart>
      <c:catAx>
        <c:axId val="18938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2678"/>
        <c:crosses val="autoZero"/>
        <c:auto val="1"/>
        <c:lblAlgn val="ctr"/>
        <c:lblOffset val="100"/>
        <c:noMultiLvlLbl val="0"/>
      </c:catAx>
      <c:valAx>
        <c:axId val="87222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38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EA4-0DF3-4392-9F95-9EA96689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C33-6CFE-4FF2-8F23-EB2FD77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36F-C2C2-463E-8C2B-0F128F24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1CF-39B4-4EE1-9CC4-C887F193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AB6-B0C5-4818-AF10-317431F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BF1-90E8-4AC3-A88C-8D29D44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B6D-78B1-4760-B943-88B57F5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BFF-7DA7-40F6-B6FC-BFFAEF1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C70-CC26-4E6A-B80C-A4A609E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653-1450-4669-AC4C-52BFC53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91B-72B3-4EB0-B630-2CA7ED5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AE6-CDCF-474C-9C7B-31821F10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A6A5-CE98-4F94-BEBA-1EADF659B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