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248613"/>
        <c:axId val="29938397"/>
      </c:barChart>
      <c:catAx>
        <c:axId val="262486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38397"/>
        <c:crosses val="autoZero"/>
        <c:auto val="1"/>
        <c:lblAlgn val="ctr"/>
        <c:lblOffset val="100"/>
        <c:noMultiLvlLbl val="0"/>
      </c:catAx>
      <c:valAx>
        <c:axId val="299383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2486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3DE4-F6FB-4FCE-9B9C-D2784EC7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E453-C113-4F60-B7BA-194AED38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B0F6-60D1-43FE-8739-E341C0CD8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1A7C-379A-4DD7-BAF5-2F509CD10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72F3-D27C-425E-95C3-99C0AE25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5476-EE58-4C19-BD07-51A1E371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6161-9056-483B-A958-A8FFB2B5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F81D-0725-4CC2-9A7E-11A045A1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E8F6-6304-4B2F-BC35-BCAA116C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8BE9-6A10-4BE4-8A80-A8230468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75C0-6B95-42A7-981C-76A0F825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C0FE-8A91-426B-A446-02E9542F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9E9B4-4B6C-42FA-BEE7-3B7FD3FB1C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