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66644"/>
        <c:axId val="52483046"/>
      </c:barChart>
      <c:catAx>
        <c:axId val="27766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3046"/>
        <c:crosses val="autoZero"/>
        <c:auto val="1"/>
        <c:lblAlgn val="ctr"/>
        <c:lblOffset val="100"/>
        <c:noMultiLvlLbl val="0"/>
      </c:catAx>
      <c:valAx>
        <c:axId val="52483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66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201-58CE-4093-BC60-8924CF88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CEE-C132-4F0D-96E4-165E2F0C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9DA-0C41-4A22-A3EF-41B00EEF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693-BE14-4747-BFB7-FF2C08BC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7DD-2476-42F4-894D-DEBD2C34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7E2-370F-4456-B63D-C305CC14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4C7-2281-46E7-BFB4-550EB5CC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4BC-2009-441A-9517-719F0A8B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1CB-B7D6-41AD-8544-F8AA6EA7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854-DA4D-497F-AD24-F41EE54E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AD7-45F4-4568-9145-3B5459B4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D7A-DF67-4958-80A9-EA376FB8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173D4-7F58-44D0-B617-48867B6513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