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38759"/>
        <c:axId val="33780598"/>
      </c:barChart>
      <c:catAx>
        <c:axId val="82838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80598"/>
        <c:crosses val="autoZero"/>
        <c:auto val="1"/>
        <c:lblAlgn val="ctr"/>
        <c:lblOffset val="100"/>
        <c:noMultiLvlLbl val="0"/>
      </c:catAx>
      <c:valAx>
        <c:axId val="33780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38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0AD-862A-4112-8C22-AD29CA1B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CBC-DEEF-421A-84C4-5BB661AB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2FD-4674-4A05-9B9A-5AC240B6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061-1252-428B-AA95-53E1D344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B2C-053E-4ABE-8F73-DD0F40D5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CF5-C56E-4C96-A9D1-E6D07047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CF1-2905-440E-B376-896D366C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0D4-0077-4954-999E-C3B7C079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E26-749C-4414-BB49-9C93DC58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54F-FEB5-4000-B631-8D71411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033-CDA5-47D5-9438-8629FF07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0D8-9EA8-4C68-9E3E-932F10B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81AB0-56B4-4407-8695-5AE73FF33E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